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DA3-DBFF-43C9-9316-32C1864C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D053-74A7-4091-A0CB-253A094E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D8B-FA0D-4415-B889-4F8860B7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BB8-4062-47A9-8F6D-007EC2B9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6C43-F149-4E91-BAFE-E307E0E7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251-F048-4E8D-BC1F-F05CD435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EE0D-28E3-4D2A-B8DB-3B50ADF3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C74-2DEF-47A8-9498-1B19D8A9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67F-4E83-4DCE-81D3-379BE121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B689-7085-4CCD-A668-5FF1BB11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3485-6BA8-47D2-A4A5-B3B2BE39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0FD0-34DF-4C75-9ADD-BA5F82B6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230B-ADFD-4FA6-8154-3E6DBCF2C07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82 Prosbu našu, Pane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osbu našu, Pane ču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sa teraz rozísť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aždého z nás ochraňu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j nám svoje požehn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môž nám vo viery boj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ch sme dnes i 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 tvoj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51:23Z</dcterms:modified>
  <cp:revision>22</cp:revision>
  <dc:subject/>
  <dc:title>Je veľký náš Pán, on slávy je Kráľ Nech do všetkých strán  spev vrúcnych znie chvál.</dc:title>
</cp:coreProperties>
</file>